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8901F-1639-46B0-94E5-A41FCAF77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145577-DC45-4F98-AA64-60CC18724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1F8417-2ACD-4CB7-AD4F-CCB407E60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CE1493-296C-46B1-82C1-483D1CB7E5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AC91C8-BAD7-424D-95A0-FD630604C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0CA7CD-8D01-4791-A15D-35FE44385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D55D11-7730-451B-ADED-CE8680A25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925E2F-FF7F-430D-98C2-0A08462D1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370367-58B2-47B7-BC6C-F1785F34B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AF03AC-4BE5-44E9-9928-F36454EE9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1C0D02-FB72-49E3-B500-ECBD5D969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B2F8A9-4A76-4F25-B9F9-A0E6973D5C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B716-96AC-4C6D-BDDD-8ED4B538E8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3358-6108-408E-B497-1686DAC2BB5C}" type="datetime">
              <a:rPr b="0" lang="zh-CN" sz="1400" spc="-1" strike="noStrike">
                <a:solidFill>
                  <a:srgbClr val="046ca6"/>
                </a:solidFill>
                <a:latin typeface="Times New Roman"/>
                <a:ea typeface="宋体"/>
              </a:rPr>
              <a:t>26/7/31</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2167-B69F-4674-A5A1-C3BC79A856ED}" type="datetime">
              <a:rPr b="0" lang="zh-CN" sz="1400" spc="-1" strike="noStrike">
                <a:solidFill>
                  <a:srgbClr val="046ca6"/>
                </a:solidFill>
                <a:latin typeface="Times New Roman"/>
                <a:ea typeface="宋体"/>
              </a:rPr>
              <a:t>26/7/31</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A694-3F1B-43A3-8346-2A0E7AA2AC09}" type="datetime">
              <a:rPr b="0" lang="zh-CN" sz="1400" spc="-1" strike="noStrike">
                <a:solidFill>
                  <a:srgbClr val="046ca6"/>
                </a:solidFill>
                <a:latin typeface="Times New Roman"/>
                <a:ea typeface="宋体"/>
              </a:rPr>
              <a:t>26/7/31</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